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O SICILIA FSE 2007 -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04A2-1326-450E-AF9A-4C8025B7E3E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6444-24B2-4F31-98B1-FE6960D7053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Header Placeholder 4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O SICILIA FSE 2007 -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egnaposto intestazione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O SICILIA FSE 2007 -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egnaposto numero diapositiva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46A9-65C3-4466-8A95-C37F135D0E7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egnaposto intestazione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O SICILIA FSE 2007 -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egnaposto numero diapositiva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BB60-9171-4E30-A2E9-C164CBFCBB7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egnaposto intestazione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O SICILIA FSE 2007 -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egnaposto numero diapositiva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94C6-5C1A-4AF8-955E-6ECC79FD9F4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25BE-3455-4122-8180-9D93C30FE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FBF9-658D-4570-9CE2-D8B59C6F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8DFA-3A8E-47FC-8B56-56707EED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95FD-D361-457C-9EBA-D123DF43D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6536-608E-4F24-AE50-1F65A81F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5937-7BD1-40E8-989B-A589D2F2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3EB0-9B4E-4A28-91BD-BB48A376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F350-5D76-434C-BAE1-04368324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C9D7-69FE-4955-84C6-14613A6A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7EFC-0687-4DD6-A46F-CF22BBF1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2743-3BF1-4ACC-98F1-D3806C34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2355-341A-4AE0-80AB-AA59DF35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9C57-F785-4A19-9F40-281C1C383D6B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F6D0-C8AB-4EC9-9F5E-612F73C223A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4B72-A1DF-4076-835F-6896E0079111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468360" y="292428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3399"/>
                </a:solidFill>
                <a:latin typeface="Arial"/>
              </a:rPr>
              <a:t>Informativa sulle attività dell’Autorità di Au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68360" y="500040"/>
            <a:ext cx="824544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3399"/>
                </a:solidFill>
                <a:latin typeface="Arial"/>
              </a:rPr>
              <a:t>PO FSE SICILIA  2014/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OBIETTIVO CONVERG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8"/>
          <p:cNvGraphicFramePr/>
          <p:nvPr/>
        </p:nvGraphicFramePr>
        <p:xfrm>
          <a:off x="4608360" y="4903920"/>
          <a:ext cx="64800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360" y="4903920"/>
                    <a:ext cx="648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TextBox 2"/>
          <p:cNvSpPr/>
          <p:nvPr/>
        </p:nvSpPr>
        <p:spPr>
          <a:xfrm>
            <a:off x="250920" y="6281640"/>
            <a:ext cx="80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99"/>
                </a:solidFill>
                <a:latin typeface="Arial"/>
              </a:rPr>
              <a:t>Comitato di Sorveglianza 25 giugno 201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"/>
          <p:cNvPicPr/>
          <p:nvPr/>
        </p:nvPicPr>
        <p:blipFill>
          <a:blip r:embed="rId3"/>
          <a:stretch/>
        </p:blipFill>
        <p:spPr>
          <a:xfrm>
            <a:off x="250920" y="4992840"/>
            <a:ext cx="1257120" cy="79056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3995640" y="571032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3399"/>
                </a:solidFill>
                <a:latin typeface="Arial"/>
              </a:rPr>
              <a:t>Regione Sicili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4"/>
          <a:stretch/>
        </p:blipFill>
        <p:spPr>
          <a:xfrm>
            <a:off x="6156360" y="5084640"/>
            <a:ext cx="1682640" cy="468360"/>
          </a:xfrm>
          <a:prstGeom prst="rect">
            <a:avLst/>
          </a:prstGeom>
          <a:ln w="0">
            <a:noFill/>
          </a:ln>
        </p:spPr>
      </p:pic>
      <p:pic>
        <p:nvPicPr>
          <p:cNvPr id="58" name="Immagine 10" descr="Risultato immagine per logo repubblica italiana scaricabile"/>
          <p:cNvPicPr/>
          <p:nvPr/>
        </p:nvPicPr>
        <p:blipFill>
          <a:blip r:embed="rId5"/>
          <a:srcRect l="0" t="0" r="0" b="20257"/>
          <a:stretch/>
        </p:blipFill>
        <p:spPr>
          <a:xfrm>
            <a:off x="2556000" y="4924440"/>
            <a:ext cx="79056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88EE-015A-43AD-BECA-E33D23F4938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503280" y="1916280"/>
            <a:ext cx="7929360" cy="39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Bandi con criteri restrittivi e/o discriminatori tali da impedire a nuovi enti di formazione di presentare domande di finanziament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assenza di schede di presenza dettagliate che specifichino le ore e le attività svolte dal personale responsabile per garantire il rispetto della norma sull’incompatibilità del doppio incarico (es. tutor e insegnant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bandi FSE sul finanziamento di borse di dottorato che prevedono l’obbligo per gli studenti di trascorrere un periodo all’estero mentre tale opportunità è facoltativa per gli studenti di dottorato non cofinanziati. La previsione di un tale obbligo può essere discriminatori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il contributo dei progetti agli indicatori associati non è stato debitamente verific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2124000" y="632160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179280" y="274680"/>
            <a:ext cx="8577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it-IT" sz="2600" spc="-1" strike="noStrike">
                <a:solidFill>
                  <a:srgbClr val="1f497d"/>
                </a:solidFill>
                <a:latin typeface="Arial"/>
              </a:rPr>
              <a:t>ANTICIPAZIONI DELLE PRINCIPALI CONSTATAZIONI DELLA CE RELATIVE AI PROGETTI CONTROLLATI NEL CORSO DELLA MISSIONE DI AUD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ABC3-1ECA-4EDA-ADD5-36BD67FC349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592200" y="1413000"/>
            <a:ext cx="7948440" cy="52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Con riferimento ad un progetto volto ad aumentare la capacità amministrativa regionale ed  implementato principalmente tramite attività di consulenza esterna con competenza specifiche sono state individuate le seguenti caren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l’oggetto delle attività di consulenza rimane molto vago e di difficile       comprensione e i risultati non sono stati controllati debitamente dall’Ad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presenza di relazioni finali di alcuni consulenti che includono attività svolte per conto dell’ AdG più affini a mansioni dell’ assistenza tecnica piuttosto che ad attività volte al miglioramento dell’organizzazione amministrativa della regione. Ciò non è considerato in linea con l’obiettivo specifico dell’asse prioritario nel quale l’operazione è certific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L’AdA è in attesa del rapporto provvisorio della 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2124000" y="632160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  <p:sp>
        <p:nvSpPr>
          <p:cNvPr id="122" name="Freccia a destra 1"/>
          <p:cNvSpPr/>
          <p:nvPr/>
        </p:nvSpPr>
        <p:spPr>
          <a:xfrm>
            <a:off x="304920" y="3141720"/>
            <a:ext cx="287280" cy="21600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ccia a destra 8"/>
          <p:cNvSpPr/>
          <p:nvPr/>
        </p:nvSpPr>
        <p:spPr>
          <a:xfrm>
            <a:off x="304920" y="3860640"/>
            <a:ext cx="287280" cy="21600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179280" y="0"/>
            <a:ext cx="8577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it-IT" sz="2600" spc="-1" strike="noStrike">
                <a:solidFill>
                  <a:srgbClr val="1f497d"/>
                </a:solidFill>
                <a:latin typeface="Arial"/>
              </a:rPr>
              <a:t>ANTICIPAZIONI DELLE PRINCIPALI CONSTATAZIONI DELLA CE RELATIVE AI PROGETTI CONTROLLATI NEL CORSO DELLA MISSIONE DI AUD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5011-F5DA-4EB5-AC65-5F05F2822D10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97536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468360" y="14292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Periodo di Audit 1 luglio 2017 – 30 giugno 201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395280" y="981000"/>
            <a:ext cx="8105760" cy="25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ctr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AUDIT</a:t>
            </a: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DI SISTEMA</a:t>
            </a:r>
            <a:r>
              <a:rPr b="1" i="1" lang="it-IT" sz="2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L’analisi del sistema di gestione e controllo ha riguard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spcAft>
                <a:spcPts val="224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Autorità di Gest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spcAft>
                <a:spcPts val="224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Autorità di Certif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spcAft>
                <a:spcPts val="224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CdR Dipartimento Famiglia e Politiche Soc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spcAft>
                <a:spcPts val="224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395280" y="3552840"/>
            <a:ext cx="810576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LIVELLO DI AFFIDABILITA’ DEL SISTEMA</a:t>
            </a:r>
            <a:r>
              <a:rPr b="0" lang="it-IT" sz="2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1f497d"/>
                </a:solidFill>
                <a:latin typeface="Arial"/>
              </a:rPr>
              <a:t>emerso dall’Audit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Categoria 2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–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Funziona.  Sono necessari alcuni miglioramenti -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Livello di confidenza 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2340000" y="6197760"/>
            <a:ext cx="32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1"/>
          <a:stretch/>
        </p:blipFill>
        <p:spPr>
          <a:xfrm>
            <a:off x="393840" y="6043680"/>
            <a:ext cx="1682640" cy="468360"/>
          </a:xfrm>
          <a:prstGeom prst="rect">
            <a:avLst/>
          </a:prstGeom>
          <a:ln w="0">
            <a:noFill/>
          </a:ln>
        </p:spPr>
      </p:pic>
      <p:sp>
        <p:nvSpPr>
          <p:cNvPr id="66" name="CasellaDiTesto 2"/>
          <p:cNvSpPr/>
          <p:nvPr/>
        </p:nvSpPr>
        <p:spPr>
          <a:xfrm>
            <a:off x="395280" y="5119560"/>
            <a:ext cx="85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La relazione di sistema è stata trasmessa via SFC ai servizi della Commis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in data 8 giugno 2018 e caricata in pari data sul portale CIRCABC della 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F13A-849F-4DA0-8F1F-7E29A94EC56D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697536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468360" y="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1f497d"/>
                </a:solidFill>
                <a:latin typeface="Arial"/>
              </a:rPr>
              <a:t>AUDIT DELLE OPERAZIO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39640" y="907920"/>
          <a:ext cx="8064720" cy="1756080"/>
        </p:xfrm>
        <a:graphic>
          <a:graphicData uri="http://schemas.openxmlformats.org/drawingml/2006/table">
            <a:tbl>
              <a:tblPr/>
              <a:tblGrid>
                <a:gridCol w="2303640"/>
                <a:gridCol w="2808360"/>
                <a:gridCol w="2952720"/>
              </a:tblGrid>
              <a:tr h="312840">
                <a:tc gridSpan="3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omande di pagamento a dicembre 2017 e giugno 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1f497d"/>
                          </a:solidFill>
                          <a:latin typeface="Calibri"/>
                          <a:ea typeface="Arial"/>
                        </a:rPr>
                        <a:t>Fasi di campiona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1f497d"/>
                          </a:solidFill>
                          <a:latin typeface="Calibri"/>
                          <a:ea typeface="Arial"/>
                        </a:rPr>
                        <a:t>Importo certifica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1f497d"/>
                          </a:solidFill>
                          <a:latin typeface="Calibri"/>
                          <a:ea typeface="Arial"/>
                        </a:rPr>
                        <a:t>Numero di oper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16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I F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€ </a:t>
                      </a: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25.829.369,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2.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II FA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€ </a:t>
                      </a: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7.163.774,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1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539640" y="4292640"/>
          <a:ext cx="8064720" cy="1800360"/>
        </p:xfrm>
        <a:graphic>
          <a:graphicData uri="http://schemas.openxmlformats.org/drawingml/2006/table">
            <a:tbl>
              <a:tblPr/>
              <a:tblGrid>
                <a:gridCol w="2311560"/>
                <a:gridCol w="2728800"/>
                <a:gridCol w="3024360"/>
              </a:tblGrid>
              <a:tr h="360360">
                <a:tc gridSpan="3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ampioni estrat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1f497d"/>
                          </a:solidFill>
                          <a:latin typeface="Calibri"/>
                          <a:ea typeface="Arial"/>
                        </a:rPr>
                        <a:t>Numero di oper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1f497d"/>
                          </a:solidFill>
                          <a:latin typeface="Calibri"/>
                          <a:ea typeface="Arial"/>
                        </a:rPr>
                        <a:t>Importo complessivo del camp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16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I F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€ </a:t>
                      </a: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9.151.926,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II FA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€</a:t>
                      </a: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1.344.136,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2" name="TextBox 2"/>
          <p:cNvSpPr/>
          <p:nvPr/>
        </p:nvSpPr>
        <p:spPr>
          <a:xfrm>
            <a:off x="2516040" y="631656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500040" y="2781360"/>
            <a:ext cx="8064360" cy="11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f497d"/>
                </a:solidFill>
                <a:latin typeface="Arial"/>
              </a:rPr>
              <a:t>La combinazione delle risultanze dell’attività dell’audit di sistema e dell’audit sulle operazioni del periodo di riferimento precedente, ha confermato il </a:t>
            </a:r>
            <a:r>
              <a:rPr b="1" i="1" lang="it-IT" sz="1800" spc="-1" strike="noStrike" u="sng">
                <a:solidFill>
                  <a:srgbClr val="1f497d"/>
                </a:solidFill>
                <a:uFillTx/>
                <a:latin typeface="Arial"/>
              </a:rPr>
              <a:t>livello di confidenza del 70%</a:t>
            </a:r>
            <a:r>
              <a:rPr b="0" i="1" lang="it-IT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1f497d"/>
                </a:solidFill>
                <a:latin typeface="Arial"/>
              </a:rPr>
              <a:t>da tenere in considerazione per l’attività di campion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1"/>
          <a:stretch/>
        </p:blipFill>
        <p:spPr>
          <a:xfrm>
            <a:off x="539640" y="6218280"/>
            <a:ext cx="168300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ACE7-F1F2-4B15-9CAF-17928BB97BC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97536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285840" y="35712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1f497d"/>
                </a:solidFill>
                <a:latin typeface="Arial"/>
              </a:rPr>
              <a:t>AUDIT</a:t>
            </a:r>
            <a:r>
              <a:rPr b="0" lang="it-IT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it-IT" sz="2800" spc="-1" strike="noStrike">
                <a:solidFill>
                  <a:srgbClr val="1f497d"/>
                </a:solidFill>
                <a:latin typeface="Arial"/>
              </a:rPr>
              <a:t>DELLE OPER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474840" y="1498680"/>
            <a:ext cx="810576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Il totale delle spese irregolari della </a:t>
            </a: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I Fase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è stato pari a € 8.514,40 con un tasso di errore sul campione pari allo 0,093%, mentre il totale delle spese irregolari della </a:t>
            </a: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II Fase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è stato pari a € 3.386,40 con un tasso di errore sul campione pari allo 0,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L’errore complessivo del campione di I e II fase è stato pertanto pari ad € 11.900,80 con un tasso di errore del campione pari a allo 0,11% che ha determinato un </a:t>
            </a:r>
            <a:r>
              <a:rPr b="1" lang="it-IT" sz="2000" spc="-1" strike="noStrike" u="sng">
                <a:solidFill>
                  <a:srgbClr val="1f497d"/>
                </a:solidFill>
                <a:uFillTx/>
                <a:latin typeface="Arial"/>
              </a:rPr>
              <a:t>tasso di errore totale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(TET) sull’intera spesa certificata di € 32.993.143,49 pari al </a:t>
            </a: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2,30%,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ricondotto dall’AdG al </a:t>
            </a: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2%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prima della presentazione del pacchetto di affidabilità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2340000" y="623736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AC8B-751C-4783-A127-C876AF0AB7AA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97536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755640" y="4046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1f497d"/>
                </a:solidFill>
                <a:latin typeface="Arial"/>
              </a:rPr>
              <a:t>RAC E PARERE 2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684360" y="1484280"/>
            <a:ext cx="7777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L’attività di audit – periodo di riferimento 1°luglio 2017 - 30 giugno 2018 si è conclusa con la redazione della </a:t>
            </a: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Relazione annuale di controllo e del Parere annuale di Audit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espresso </a:t>
            </a: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senza riserve,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trasmessi via SFC alla Commissione Europea con nota 688/06 del 14 febbraio 201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La Commissione Europea, con la nota Ares (2019) 1757497 del 18 marzo 2019 ha dichiarato che la Relazione annuale e il parere di Audit, la dichiarazione di gestione e la sintesi annuale di cui all’art. 138 lett b) e c) dell’RDC (pacchetto affidabilità) sono conformi alla legislazioni vig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211480" y="6237360"/>
            <a:ext cx="58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3099-4B83-4432-B31A-25EC6F3EDF4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697536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468360" y="14292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Periodo di Audit 1 luglio 2018 – 30 giugno 201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395280" y="836640"/>
            <a:ext cx="8105760" cy="23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ctr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AUDIT</a:t>
            </a: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DI SISTEMA</a:t>
            </a:r>
            <a:r>
              <a:rPr b="1" i="1" lang="it-IT" sz="2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1f497d"/>
                </a:solidFill>
                <a:latin typeface="Arial"/>
              </a:rPr>
              <a:t>L’analisi del sistema di gestione e controllo ha riguarda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spcAft>
                <a:spcPts val="24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Autorità di Gestio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spcAft>
                <a:spcPts val="24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Autorità di Certificazio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spcAft>
                <a:spcPts val="24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CdR Dipartimento Lav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500040" y="3500280"/>
            <a:ext cx="8105760" cy="31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1f497d"/>
                </a:solidFill>
                <a:latin typeface="Arial"/>
              </a:rPr>
              <a:t>LIVELLO DI AFFIDABILITA’ DEL SISTEMA </a:t>
            </a:r>
            <a:r>
              <a:rPr b="0" i="1" lang="it-IT" sz="2000" spc="-1" strike="noStrike">
                <a:solidFill>
                  <a:srgbClr val="1f497d"/>
                </a:solidFill>
                <a:latin typeface="Arial"/>
              </a:rPr>
              <a:t>emerso dall’Audit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Categoria 2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– Funziona. Sono necessari alcuni miglioramen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Livello di confidenza 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La relazione di sistema è stata trasmessa ai servizi della Commissione via SFC in data 14 febbraio 2019 e in pari data è stata caricata sul portale CIRCABC della 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2627280" y="6237360"/>
            <a:ext cx="32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4857-5905-4C83-A6E2-1AF21ACCBE8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97536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68360" y="0"/>
            <a:ext cx="8066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3399"/>
                </a:solidFill>
                <a:latin typeface="Arial"/>
              </a:rPr>
              <a:t>Audit delle oper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9640" y="907920"/>
          <a:ext cx="8064720" cy="1152720"/>
        </p:xfrm>
        <a:graphic>
          <a:graphicData uri="http://schemas.openxmlformats.org/drawingml/2006/table">
            <a:tbl>
              <a:tblPr/>
              <a:tblGrid>
                <a:gridCol w="2675160"/>
                <a:gridCol w="3143160"/>
                <a:gridCol w="2246400"/>
              </a:tblGrid>
              <a:tr h="312840">
                <a:tc gridSpan="3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omanda di pagamento a dicembre 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78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Importo certific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Numero di oper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I F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85.010.725,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5.1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39640" y="2708280"/>
          <a:ext cx="8064720" cy="1373040"/>
        </p:xfrm>
        <a:graphic>
          <a:graphicData uri="http://schemas.openxmlformats.org/drawingml/2006/table">
            <a:tbl>
              <a:tblPr/>
              <a:tblGrid>
                <a:gridCol w="3240360"/>
                <a:gridCol w="4824360"/>
              </a:tblGrid>
              <a:tr h="360360">
                <a:tc grid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ampione estra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Numero di oper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Importo complessivo del camp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4316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32.128.122,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9" name="TextBox 2"/>
          <p:cNvSpPr/>
          <p:nvPr/>
        </p:nvSpPr>
        <p:spPr>
          <a:xfrm>
            <a:off x="2195640" y="623736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500040" y="2428920"/>
            <a:ext cx="8064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  <p:sp>
        <p:nvSpPr>
          <p:cNvPr id="102" name="CasellaDiTesto 1"/>
          <p:cNvSpPr/>
          <p:nvPr/>
        </p:nvSpPr>
        <p:spPr>
          <a:xfrm>
            <a:off x="500040" y="4508640"/>
            <a:ext cx="8137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L’attività di verifica sulle operazioni campionate è stata avviata in data 4 marzo 2019 e si è conclusa il 24 giugno 2019 con la stesura dei rapporti provvisori. A seguito del contraddittorio questa AdA entro il 30 settembre 2019 invierà ai CdR interessati i rapporti definitivi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903B-6967-4763-900C-E432752F560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74560" y="836640"/>
            <a:ext cx="7921800" cy="51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I servizi della Commissione hanno chiesto alle AdA, già a fine 2018, di trattare nelle Relazioni annuali di controllo (RAC) gli approfondimenti sulle attività svolte, nell’ambito degli audit di sistema e delle operazioni, sull’affidabilità dei dati relativi agli indicatori di performa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Questa AdA ha ritenuto opportuno garantire l’affidabilità dei dati degli indicatori di performance attraverso una metodologia svolta in tre fasi che ha riguard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Audit di sistema (svolti sul periodo contabile 2018/2019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Audit sulle operazioni (periodo contabile 2017-2018 completati e 2018-2019 in corso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Verifica affidabilità dei dati di PF riportati nella bozza di RAA (in cors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Gli esiti dell’attività svolta sugli indicatori saranno compendiati in un rapporto che verrà trasmesso entro il mese di giugno alla CE via SF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340000" y="6235560"/>
            <a:ext cx="36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250920" y="26028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VERIFICA AFFIDABILITA’ DATI  SUGLI INDICATORI DI 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9C15-345E-49B2-B2BE-B8591FA90F8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539640" y="1052640"/>
            <a:ext cx="7993080" cy="61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Missione di Audit  21-29 maggio 2019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della DG EMPL (ARES 2498485 del 9 aprile 2019) sul lavoro svolto dall'AdA per il periodo contabile 2017/201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L'audit ha riguarda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la revisione della metodologia dell'AdA in relazione ai seguenti requisiti chiav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-  RC 15 - Audit di sistema adegu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-  RC 16 - Audit delle operazioni adegu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- RC 18 - Procedure adeguate per fornire un parere di audit             affidabile per la preparazione della R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la riesecuzione degli audit di 8 operazioni scelte a campione tra quelle controllate dall'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2124000" y="623556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684360" y="260280"/>
            <a:ext cx="770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3399"/>
                </a:solidFill>
                <a:latin typeface="Arial"/>
              </a:rPr>
              <a:t>MISSIONI DI AUDIT DELLA 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0:36:00Z</dcterms:created>
  <dc:creator>PriceWaterhouseCoopers Spa</dc:creator>
  <dc:description/>
  <dc:language>en-US</dc:language>
  <cp:lastModifiedBy>Autore</cp:lastModifiedBy>
  <cp:lastPrinted>2019-06-24T14:33:14Z</cp:lastPrinted>
  <dcterms:modified xsi:type="dcterms:W3CDTF">2019-06-25T08:06:27Z</dcterms:modified>
  <cp:revision>296</cp:revision>
  <dc:subject/>
  <dc:title>Slide 1</dc:title>
</cp:coreProperties>
</file>